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390-B608-4216-ACC6-9BEA7924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35E-0E79-43BF-BC14-F0535510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BB6-37A1-43F8-92C6-97EE8366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81D-671E-4081-9130-046EEC95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914-CA4E-45B9-AE52-00025927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A99-D2D5-4219-BBA9-122FA40E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FD6-A19B-46AB-A53E-30A7E149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8C2-8A71-43D1-BA53-C0F4D195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AEF-4A8B-4814-9AC6-A25329FE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41E-4974-4AEC-B6A3-8FF38CC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4BE-DD37-4D4B-9AE8-6916BE0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851-3B0A-49CE-9BEA-E4CBF83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FA8A-FAC0-4908-AFCF-D35FF608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holamun2.com/files/images/attachments/2008/01/america-chivas.jpg&amp;imgrefurl=http://www.holamun2.com/news/tag/mexico%2520city&amp;usg=__2ORwn1aGQlB_cAXqNdasFOCvCEk=&amp;h=274&amp;w=430&amp;sz=54&amp;hl=en&amp;start=3&amp;itbs=1&amp;tbnid=JL6r-UtjSQSMIM:&amp;tbnh=80&amp;tbnw=126&amp;prev=/images%3Fq%3DAMERICA,%2BCHIVAS,MEXICO%26hl%3Den%26safe%3Dactive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y J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Neg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er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609480"/>
            <a:ext cx="838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S COLOR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533520"/>
            <a:ext cx="8763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S CLAS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05740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533520"/>
            <a:ext cx="8229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S DEPORT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380880"/>
            <a:ext cx="800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S BANDERA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2:24Z</dcterms:created>
  <dc:creator>WSFCS Workstation</dc:creator>
  <dc:description/>
  <dc:language>en-US</dc:language>
  <cp:lastModifiedBy>WSFCS Workstation</cp:lastModifiedBy>
  <dcterms:modified xsi:type="dcterms:W3CDTF">2010-04-26T18:58:18Z</dcterms:modified>
  <cp:revision>4</cp:revision>
  <dc:subject/>
  <dc:title>LA CLASE DE ESPANOL</dc:title>
</cp:coreProperties>
</file>